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4DC-7D6F-47D6-9360-990E162F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8B1-9A90-464E-974E-F8CA9CD0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4E3-6DB6-444E-A601-871B120A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CF8-8292-4E43-B575-7500332E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E7C2-6C8F-485F-92EB-8C914616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93B8-23EE-49B3-B582-6E93C5AF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FF19-AFF3-45E8-BA5C-3A152BF9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D85D-FB93-46F5-B1D0-151CB1F4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C87E-05C9-44A0-8F21-F0C71A56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7E1E-1F60-4DDE-9BE8-832BA26C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7E1E-A06D-4E86-BB9C-3B516D1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B95-9435-46F4-AE8A-A4A0885B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EE86-435F-4371-A910-618E946C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BC18-2D42-41E7-B147-3F1A44EE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D77F-C32E-4F36-B9C7-4536DC2C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4510-CD42-4E52-A0C8-7531EDB5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5DA7-D768-483F-AFDF-C151FBB9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08A1-E7EA-42A6-A4AE-5E5AF079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C0AD6-AF5F-4725-B665-CBCB327B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43D2-DB4E-46FD-8933-9FCA2FDA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7108-7C92-416F-80E8-A216A3E8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40D9E-B1BE-4BDB-A321-38AC9CDC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C84-7BFD-456A-80E4-1CB023A2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8F20-E847-4A2C-83AB-30EDCD92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4574-36AB-48F8-96C0-B44D29A8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D26E-E1F9-47AD-B8D8-39D1DD8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1AF9-1F9E-44EE-982D-F6EA24C4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4D9D-53C9-48D9-A71B-DD40E719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5A60-02D1-4826-BC4C-5AEBC4D8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4EE1-A62D-4AD1-BE0B-931DDAC0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31A0E-A796-47E6-A298-8C31A129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393D0-1053-4517-99E7-A36B0850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4EE21-9F69-40B6-BC3E-2C019F81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3CC-3FDA-45FA-9F73-983491A0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35B82-875B-4B8C-887C-E8779D82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7E341-6CF8-4CE3-8049-B81D1E1F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6877-FC2E-477D-8729-50CBA31A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B155F-217E-47DA-9A52-3ED0D5CD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0653-6A00-4BD7-BCC9-861BF8F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390E7-64D2-4C2B-8AEE-C6884771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4D142-2EF1-42F3-8314-4D41904C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CEB9-5BCE-44DB-9DAD-5194B6D1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AB49-5A2E-4B48-9253-A35411D9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C98F4-87D9-4AD1-95B5-62A590A2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94C-A63B-4D23-BEDF-D2526F6C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193F-7207-4242-BC77-130B0AD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9FC2C-BA1F-429C-A516-4D5133E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49FE2-4636-4513-854A-DD609459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FA537-E9AB-4BCB-AAC1-14E27548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419BA-0DDB-4C7A-86E0-11625C50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D1B01-B7BD-4FA3-A013-576D4B45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30F28-D8B5-409D-A2D5-FEE1271C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272E2-2CDF-4B23-9860-FCBBDE3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09ECB-2BAD-4C07-8A08-D977A8FE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E25E1-F966-411C-866A-52AC680D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B19-80B1-4E1A-A5BD-7288465C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ED05-5DD9-43C2-A75C-26E56BB3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AC9-D7C1-4E60-815B-51E7CE88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56C-021C-4266-A887-1405FD7D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F47-6AA8-408B-B0A6-1B76D79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CE13-FE3D-4B48-A99F-141FF3870373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2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D2C9-5077-413D-99B8-99C4318565AA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2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95A9-7A32-41B0-AFB1-0D4189F40A0E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2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0DB8-4737-4598-9FD4-073246659A61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2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E25E-7008-44AC-AF8B-8EC53B7B0AED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class.teicrete.gr/modules/link/link.php?course=TP253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‘</a:t>
            </a: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MSC ON INFORMATICS ENGINEERING’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7846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epartment of Electrical Engineering and Computer Engineering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Hellenic Mediterranean Universit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licant profi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re-requisite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asic knowledge of Programmi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asic knowledge of DB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asic Knowledge of logic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kill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asic web programmi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asic java programmi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xpected weekly workloa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part from the 4 course hours an extra 4-6 hours are </a:t>
            </a: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anticipated depending on the background of the student.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34"/>
                </a:solidFill>
                <a:latin typeface="Arial"/>
              </a:rPr>
              <a:t>Workload is expected to reach its peak at the period when  students are to implemented their project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urse title &amp; identit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mantic  We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e Semantic Web is an evolving extension of the World Wide Web, in which the meaning of the information and the services on the web are defined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everal enabling technologies has been developed to define standard specifications in the data exchanged on the Internet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Focu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Multimedi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nformation System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mbers of stuf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r. Nikos Papadaki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Laboratory  Dr. Haridimos Kondylaki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ree (3) hours lectures: (YES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aboratory classes: (YES/NO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eek by Wee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ssignmen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 or 2 sets of exercises (atomic)   30%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oject work(team) and presentation  70%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d-term assessment (NO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al assessment (NO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ecific deta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troduction to SemanticTechnology of Semantic Web,XML,RDF – RDFS,OWL,Query Languages  (xquery, RQL SERQL, SPARQL),Logic and Reasoning, Applica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ssignments / projec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47840" indent="-1785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XML, RDF,RDF-SOWL-full,OWL-DL, Reasoner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47840" indent="-1785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ools editx, Proteze, Jen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47840" indent="-1785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ndicate type of learning material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15320" indent="-1785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extbook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292934"/>
                </a:solidFill>
                <a:latin typeface="Arial"/>
              </a:rPr>
              <a:t>Γρηγόρης Αντωνίου &amp; </a:t>
            </a:r>
            <a:r>
              <a:rPr b="1" lang="en-US" sz="1200" spc="-1" strike="noStrike">
                <a:solidFill>
                  <a:srgbClr val="292934"/>
                </a:solidFill>
                <a:latin typeface="Arial"/>
              </a:rPr>
              <a:t>Frank van Harmelen "</a:t>
            </a:r>
            <a:r>
              <a:rPr b="1" lang="el-GR" sz="1200" spc="-1" strike="noStrike">
                <a:solidFill>
                  <a:srgbClr val="292934"/>
                </a:solidFill>
                <a:latin typeface="Arial"/>
              </a:rPr>
              <a:t>Εισαγωγή στον Σημασιολογικό Ιστό", Εκδόσεις Κλειδάριθμος 2009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333333"/>
                </a:solidFill>
                <a:latin typeface="Arial"/>
              </a:rPr>
              <a:t>Βουρός, Κώτης, Σπαντιδάκης, Ο Σημασιολογικός Ιστός για τους Δημιουργούς Οντολογιών, ΔΙΣΙΓΜΑ 2022</a:t>
            </a: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34"/>
                </a:solidFill>
                <a:latin typeface="Arial"/>
              </a:rPr>
              <a:t>Michael C. Daconta , Leo J. Obrst , Kevin T. Smith "The Semantic Web: A Guide to the Future of XML, Web Services, and Knowledge Management", Amazon 2003</a:t>
            </a: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 lvl="2" marL="715320" indent="-1785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Research papers and Use manuals 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class.teicrete.gr/modules/link/link.php?course=TP253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78560" indent="-17856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ecific deta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pecify expected outcom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aim of this course is that students understand the representation and the process of knowledge in the Semantic Web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etail any R&amp;D project opportunities / relevanc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Today’s We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he World Wide Web has changed the way people communicate with each other and the way business is conducted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Most of today’s Web content is suitable for human consumption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Arial"/>
              </a:rPr>
              <a:t>Typical uses of the Web today involve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umans seeking and consuming informa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arching and getting in touch with other human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reviewing the catalogs of online stores and ordering produc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viewing adult materia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3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9173-9F25-4B0F-A598-0E6068030E25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earch Engin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332000" y="1447560"/>
            <a:ext cx="760248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Keyword-based search engines, such as Google and Yahoo, are the main tool for using today’s Web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However there are serious problems associated with their us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High recall, low precision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Low or no recall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Results highly sensitive to vocabulary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92934"/>
                </a:solidFill>
                <a:latin typeface="Arial"/>
              </a:rPr>
              <a:t>Results are single Web pages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But even if a search is successful, it is the human who has to browse selected retrieved documents to extract the information he is actually looking for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Arial"/>
              </a:rPr>
              <a:t>The main obstacle for providing a better support to Web users is that, at present, the meaning of Web content is not </a:t>
            </a:r>
            <a:r>
              <a:rPr b="0" i="1" lang="en-US" sz="2200" spc="-1" strike="noStrike">
                <a:solidFill>
                  <a:srgbClr val="292934"/>
                </a:solidFill>
                <a:latin typeface="Arial"/>
              </a:rPr>
              <a:t>machine accessible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34" name="3 - Ορθογώνιο"/>
          <p:cNvGrpSpPr/>
          <p:nvPr/>
        </p:nvGrpSpPr>
        <p:grpSpPr>
          <a:xfrm>
            <a:off x="1706400" y="5456160"/>
            <a:ext cx="6851880" cy="1309680"/>
            <a:chOff x="1706400" y="5456160"/>
            <a:chExt cx="6851880" cy="1309680"/>
          </a:xfrm>
        </p:grpSpPr>
        <p:pic>
          <p:nvPicPr>
            <p:cNvPr id="235" name="3 - Ορθογώνιο" descr=""/>
            <p:cNvPicPr/>
            <p:nvPr/>
          </p:nvPicPr>
          <p:blipFill>
            <a:blip r:embed="rId1"/>
            <a:stretch/>
          </p:blipFill>
          <p:spPr>
            <a:xfrm>
              <a:off x="1706400" y="5456160"/>
              <a:ext cx="685188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1712880" y="5465880"/>
              <a:ext cx="68407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34"/>
                  </a:solidFill>
                  <a:latin typeface="Arial"/>
                </a:rPr>
                <a:t>It is simply difficult to distinguish the meaning of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292934"/>
                  </a:solidFill>
                  <a:latin typeface="Arial"/>
                </a:rPr>
                <a:t>I am a professor of computer science . . .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34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92934"/>
                  </a:solidFill>
                  <a:latin typeface="Arial"/>
                </a:rPr>
                <a:t>I am a professor of computer science, you may think. Well, . . .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237" name="4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EE7C-A636-4E60-BAB2-9677321DB27E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Semantic Web (SW) Initiativ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question is how the current situation can be improve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One solution is to use the content as it is represented today, and to develop increasingly sophisticated techniques based on </a:t>
            </a:r>
            <a:r>
              <a:rPr b="0" i="1" lang="en-US" sz="2000" spc="-1" strike="noStrike">
                <a:solidFill>
                  <a:srgbClr val="292934"/>
                </a:solidFill>
                <a:latin typeface="Arial"/>
              </a:rPr>
              <a:t>artificial intelligence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292934"/>
                </a:solidFill>
                <a:latin typeface="Arial"/>
              </a:rPr>
              <a:t>computational linguistics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his approach still appears too ambitiou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n alternative approach is to represent Web content in a form that is more easily machine processable, and to use intelligent techniques to take advantage of these representations.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We refer to this plan of revolutionizing the Web as </a:t>
            </a:r>
            <a:r>
              <a:rPr b="0" i="1" lang="en-US" sz="1800" spc="-1" strike="noStrike">
                <a:solidFill>
                  <a:srgbClr val="292934"/>
                </a:solidFill>
                <a:latin typeface="Arial"/>
              </a:rPr>
              <a:t>the Semantic Web initiativ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Semantic Web is propagated by the World Wide Web Consortium (W3C), an international standardization body for the Web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3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C504-7AC8-431A-8BF7-E1E571ACC7B2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he “layer cake” of the SW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3 - Θέση αριθμού διαφάνειας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740F-5D5A-4E68-8F38-29EEE04D1AB0}" type="slidenum">
              <a:rPr b="1" lang="el-G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502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4:33:27Z</dcterms:created>
  <dc:creator>Dimosthenis</dc:creator>
  <dc:description/>
  <dc:language>en-US</dc:language>
  <cp:lastModifiedBy>spyros panagiotakis</cp:lastModifiedBy>
  <dcterms:modified xsi:type="dcterms:W3CDTF">2023-10-05T16:30:41Z</dcterms:modified>
  <cp:revision>30</cp:revision>
  <dc:subject/>
  <dc:title>‘Informatics &amp; multimedia’</dc:title>
</cp:coreProperties>
</file>